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9E16-31B0-4233-8E98-E6011B2CB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BF5E-5477-4416-9925-A2E594068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7418-FA66-44AF-AF50-FA44F69B3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66A5-50F2-456F-A687-E9EA9EEB9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F71B-30EF-4CA7-B36C-E3AFFF9DC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A57F-6599-49E7-B5C0-C9FE0A7A7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640D-2437-4E17-A9FF-AEA4A3253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1FD6-D987-4426-A2B5-F2BD466FB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D66F-7749-4021-907F-B744E92BB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8120-CB0B-416F-9F4D-C763F41B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41C5-5F75-4192-91E3-379A1A98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557D-9F2F-421F-BFAB-7EDD62BFC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D39A-A3C4-42EC-807D-F9C341A2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E5E5-A33C-43B6-9C03-130D8A0A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BD8D-41D4-4AE8-88AB-1354D430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F750-D710-4B08-AC3B-F5C518F9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9C7D-7467-42D5-AE1B-D30657D8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7EC5-1B59-4130-BAAD-6A0FA0F7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67EB-C47B-48FA-BA5E-8082833A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3C11-3D8D-4097-83E2-97E92188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2460-21F1-447A-A017-260BB0B2B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pe Intercept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taking no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pe Intercept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mx +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x and y are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s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= the y inter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graph a line in slope intercept for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location of the y intercept on the y ax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the point with a d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slope’s Rise (up or down depending on if the slope is positive or negativ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slope’s Run (move righ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the new point with a d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1066680" y="1447920"/>
                <a:ext cx="274320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Text Box 6"/>
          <p:cNvSpPr/>
          <p:nvPr/>
        </p:nvSpPr>
        <p:spPr>
          <a:xfrm>
            <a:off x="1066680" y="3048120"/>
            <a:ext cx="685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= 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4800600" y="2819520"/>
            <a:ext cx="3772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990720" y="1447920"/>
                <a:ext cx="22096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Text Box 6"/>
          <p:cNvSpPr/>
          <p:nvPr/>
        </p:nvSpPr>
        <p:spPr>
          <a:xfrm>
            <a:off x="1219320" y="3276720"/>
            <a:ext cx="1752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= 2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 –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4419720" y="2286000"/>
            <a:ext cx="438156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685800" y="1676520"/>
                <a:ext cx="26668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Text Box 6"/>
          <p:cNvSpPr/>
          <p:nvPr/>
        </p:nvSpPr>
        <p:spPr>
          <a:xfrm>
            <a:off x="762120" y="3124080"/>
            <a:ext cx="525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ve for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 – 4x +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4495680" y="2590920"/>
            <a:ext cx="4000680" cy="36194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609480" y="4648320"/>
            <a:ext cx="3124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=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533520" y="220968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4x                             -4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-4x 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4"/>
              <p:cNvSpPr txBox="1"/>
              <p:nvPr/>
            </p:nvSpPr>
            <p:spPr>
              <a:xfrm>
                <a:off x="609480" y="1371600"/>
                <a:ext cx="381024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Text Box 6"/>
          <p:cNvSpPr/>
          <p:nvPr/>
        </p:nvSpPr>
        <p:spPr>
          <a:xfrm>
            <a:off x="533520" y="2590920"/>
            <a:ext cx="43434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for 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minus 3x from both sides then divide by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8"/>
              <p:cNvSpPr txBox="1"/>
              <p:nvPr/>
            </p:nvSpPr>
            <p:spPr>
              <a:xfrm>
                <a:off x="533520" y="3962520"/>
                <a:ext cx="4038480" cy="19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2" name="Picture 10" descr=""/>
          <p:cNvPicPr/>
          <p:nvPr/>
        </p:nvPicPr>
        <p:blipFill>
          <a:blip r:embed="rId1"/>
          <a:stretch/>
        </p:blipFill>
        <p:spPr>
          <a:xfrm>
            <a:off x="4876920" y="2514600"/>
            <a:ext cx="38480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23:41:21Z</dcterms:created>
  <dc:creator>Troy Clarke</dc:creator>
  <dc:description/>
  <dc:language>en-US</dc:language>
  <cp:lastModifiedBy>Floyd Stensrud</cp:lastModifiedBy>
  <dcterms:modified xsi:type="dcterms:W3CDTF">2009-11-19T13:54:37Z</dcterms:modified>
  <cp:revision>8</cp:revision>
  <dc:subject/>
  <dc:title>Slope Intercept Form</dc:title>
</cp:coreProperties>
</file>